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AA3-61FB-458D-AF70-824EB57E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1BB-3199-4902-B8C9-B44C588A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746-BFDC-4459-AE08-443FB6A9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E9A-A4AD-4A53-B5B1-80765181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BC6C-DCB3-42BC-9B76-6ED86DF7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AB8B-C21C-42F6-9DE3-A942C05F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8F32-F1E4-4B8B-8BA4-C777403A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BC44-D35F-480A-95B0-D6F0C530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7EC5-21B4-4AD9-B0B2-1F35007D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BB8A-2ECA-4605-9EFD-48E4A682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04B6-8CF2-47FD-9787-08327783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4E86-721E-4B07-BAA7-8899CA29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DE40-83CA-4FC6-B38F-07357952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74BC-8402-48CC-B1F9-8034733B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ACF5-F051-482F-B04E-883B9E53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FFE2-30A7-4ADE-9075-831ED2AA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C2CD-760A-432F-9426-590353F6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97A-2FE3-45D3-B9D8-8ADE1FA0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0F6-A06F-43FC-8ADF-AEAF5B9F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3BD7-51DE-4B67-8E39-39444378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7DA-603B-423E-B9B0-443AC631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AE5-E2E5-4ADC-B67E-4718BB6A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E363-62C6-4AA4-AE6F-52ADB046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1FC8-FB28-4E9F-B2B8-62A70203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004B-3D0E-46B0-BDE3-A3F2B16B610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0CB7-91D0-4E54-B432-C11A5CD917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37ssHa0Vqwg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bc.co.uk/radio4/womanshour/05/2008_28_wed.s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ssion 3 How do people learn other languages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at different types of language learning material and try to classify them according to pedagog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material do you like best? 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od language learn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helps language learn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lli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ti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son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i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 prefere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 belie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h yeah bab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seems to be the underlying theory of language acquisition applied by this auntie?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uk.youtube.com/watch?v=37ssHa0Vqw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men’s Ho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sten to the recording and answer the follow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job of person being interview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she at the Sure Start cent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ich of the theories of language acquisition does she seem to favour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do the young mums learn?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bbc.co.uk/radio4/womanshour/05/2008_28_wed.s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ories of second language acquisi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havi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natis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formation Process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raction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aviour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Listen and rep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ll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Target language inp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Focus on pronunc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Language laborato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nat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Krashen’s highly influential theories of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acquisition vs.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input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affective filte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natural orde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monito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Proces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Noticing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ractice’ as in learners working hard to understand how the language 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teraction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Modified interaction (e.g. clarification requests, comprehension checks, repetition/paraphra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Scaffolding’ (after Vygotsky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edagogies of second language teaching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udio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tal immersion and content teaching (Suggestopedi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unicative languag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Grammar Translation still followed in many places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0-17T11:48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